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21899"/>
        <c:axId val="43448683"/>
      </c:barChart>
      <c:catAx>
        <c:axId val="63121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8683"/>
        <c:crosses val="autoZero"/>
        <c:auto val="1"/>
        <c:lblAlgn val="ctr"/>
        <c:lblOffset val="100"/>
        <c:noMultiLvlLbl val="0"/>
      </c:catAx>
      <c:valAx>
        <c:axId val="43448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21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914-774F-475A-B653-6FAFE2A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AEB-44DA-4E28-9E46-C62D22E6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664-0490-4E37-B155-9869727A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132-4DB1-4004-ADBD-31E42823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B2C-1BF1-487B-A0BE-BCF3C07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CEB-6E1D-4C5C-919D-A577111F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033-E9B6-4387-A763-EE4F6C18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BCF-6CE3-46A9-82E3-84366231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DFD-B400-4509-93B3-63431C1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A89-DA9D-45ED-86A5-9810ECF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B4E-7CA7-4A5C-A65C-5429620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A1D-14F3-4E78-97B3-4516E01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F3E2B-E954-4933-ABD8-C6E3B52B57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