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6903169"/>
        <c:axId val="16359388"/>
      </c:barChart>
      <c:catAx>
        <c:axId val="7690316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359388"/>
        <c:crosses val="autoZero"/>
        <c:auto val="1"/>
        <c:lblAlgn val="ctr"/>
        <c:lblOffset val="100"/>
        <c:noMultiLvlLbl val="0"/>
      </c:catAx>
      <c:valAx>
        <c:axId val="1635938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90316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7951E-765B-4B03-957A-4FBA1C73F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58712-7445-428D-91EA-6C14AEEFF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97CD2-B4F5-462F-9B65-E461928C3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10B9-1753-489C-BA90-899E896A9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2D652-06D8-4C15-9AB0-B27B54B2B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A18B2-818A-4D20-9494-8CFACE00AB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F45C8-ABCC-4183-890E-AD73193DF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14B55-3C15-4F98-954F-2894397DE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06DE-B6DD-4F79-AA63-D20E4FED5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C4A8-3646-4125-AB78-686729CE5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B725-93C9-4FE9-A8F8-BB823461E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4E74A-E16D-4327-8290-2AB9E227F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091276-ED09-4230-86FB-B8967CCAABD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