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638572"/>
        <c:axId val="81920503"/>
      </c:barChart>
      <c:catAx>
        <c:axId val="6663857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0503"/>
        <c:crosses val="autoZero"/>
        <c:auto val="1"/>
        <c:lblAlgn val="ctr"/>
        <c:lblOffset val="100"/>
        <c:noMultiLvlLbl val="0"/>
      </c:catAx>
      <c:valAx>
        <c:axId val="819205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63857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FF18F-1551-496F-84E2-2F6B78F97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ACF9-064C-44AE-8E27-3C0F4CCB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C42-0810-4886-98ED-CC931EA25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2F62-DA65-4193-B4E0-3AE98CFA0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7A77-E5C9-45C7-9884-F207F50BC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B97A9-11A5-4A29-A967-F610CE9AC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C674-57A9-42E9-9CDC-7D4647D9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DF14-3EE5-48A4-9AF9-0911FF38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0277-CA8B-49B0-8123-4B4EE970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B2D1-09C0-4FCC-A60C-AC747706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A8EA-3339-4DC5-9873-C59DE6F8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C183-67C5-4684-87D5-69798926E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4DC3DD-64BE-44FE-B7B5-F0DD018D912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