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143380"/>
        <c:axId val="47056084"/>
      </c:barChart>
      <c:catAx>
        <c:axId val="511433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056084"/>
        <c:crosses val="autoZero"/>
        <c:auto val="1"/>
        <c:lblAlgn val="ctr"/>
        <c:lblOffset val="100"/>
        <c:noMultiLvlLbl val="0"/>
      </c:catAx>
      <c:valAx>
        <c:axId val="470560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1433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DB93-45FB-46A5-84CE-47E66962D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E504-19D2-4338-B020-6B680440E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289E-236D-4476-A180-B53A040AD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41EA-3058-41DD-8927-4C2DB2DAF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63F9-11BD-4AF2-A3B0-2F3636286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D9E4-6222-4CCF-9790-35D2EFFA9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C972-45EA-4C51-B3A6-64EE97F3E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2E08-7288-402A-85E7-F9CDC60AF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4230-4B9E-40A8-8462-BD42E01C5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318B-9299-46E4-9BB6-4A64B61A9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99BE-ACD4-47FA-A8E5-7F6066137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0793-9BDB-468B-B219-11FEBAF8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5480E9-9FC1-45E1-8F15-4481D0E4FCB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