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903900"/>
        <c:axId val="35953845"/>
      </c:barChart>
      <c:catAx>
        <c:axId val="619039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53845"/>
        <c:crosses val="autoZero"/>
        <c:auto val="1"/>
        <c:lblAlgn val="ctr"/>
        <c:lblOffset val="100"/>
        <c:noMultiLvlLbl val="0"/>
      </c:catAx>
      <c:valAx>
        <c:axId val="35953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039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8EFD-1640-420F-B1A4-889DB6C3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74E-1D51-4C93-87F2-61610EC7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D45C-4802-47B3-8398-EA56B08A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8903-D088-4DC6-8E81-619A397D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40D-D6F8-4BA5-A79C-E561E040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0B16-6450-4264-82B5-3412B794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810F-C2C4-4378-A5C3-4A3F11C4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6E29-A7C7-4BD7-82F1-706296C0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D36B-C444-47F1-A494-4D4996ED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9936-9332-45B9-A40C-EEC53344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E2D-5E51-4E71-B8D6-472F1CC3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2A3-6CF1-4F95-A1DD-3129A77C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90865-F255-4776-A64E-14FC6FFC7E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