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75465"/>
        <c:axId val="98924344"/>
      </c:barChart>
      <c:catAx>
        <c:axId val="81575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24344"/>
        <c:crosses val="autoZero"/>
        <c:auto val="1"/>
        <c:lblAlgn val="ctr"/>
        <c:lblOffset val="100"/>
        <c:noMultiLvlLbl val="0"/>
      </c:catAx>
      <c:valAx>
        <c:axId val="98924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75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99B-B36C-4E84-87A3-FC512CF9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02D-D198-4DCF-B6D2-4587B41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156-1A38-4870-BD74-3691F9B5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02A-039C-47FC-93B4-A70E5BEA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2F8-7A7C-4B02-8900-0539D7A9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63F-C044-4F78-94CC-E24DF2E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FB0-1002-4D30-A431-4FDF78C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3B3-7EF6-4CD8-9A1A-12AE1F7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99F-462D-4920-920E-E0F5246F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4C8-A47B-47E3-96B2-8936FA9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921-3142-42BE-A823-3C4054D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E6E-5417-4BAA-9D27-95633BD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65B5-0B66-4B1D-A7BD-9BF54A91E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