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41373"/>
        <c:axId val="74559278"/>
      </c:barChart>
      <c:catAx>
        <c:axId val="71041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59278"/>
        <c:crosses val="autoZero"/>
        <c:auto val="1"/>
        <c:lblAlgn val="ctr"/>
        <c:lblOffset val="100"/>
        <c:noMultiLvlLbl val="0"/>
      </c:catAx>
      <c:valAx>
        <c:axId val="745592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41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D7D5-F567-46D7-851F-8D69532E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52A-F2C5-4929-B44A-DD87031D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7E73-C35B-4A08-AAF1-A87B2D65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0F0E-0B58-408F-95FF-31377F23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EC9D-8541-431F-9372-1D244B9B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6BCF-5533-44A9-9D5A-650DDEF5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DCB1-E344-4EFE-9262-9123BE3D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27C9-66AA-4194-9D18-27F748F4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7D17-4CAD-4887-AF6F-9D30EA32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908-1B61-49B5-BF31-AAAB3482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C95F-D586-4483-9E4B-C00797AC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0625-BDA5-4C4A-95FE-2D3E3BD7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A4C8B-947D-42FD-8FFB-205A55F08F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