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66133"/>
        <c:axId val="8429161"/>
      </c:barChart>
      <c:catAx>
        <c:axId val="63266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9161"/>
        <c:crosses val="autoZero"/>
        <c:auto val="1"/>
        <c:lblAlgn val="ctr"/>
        <c:lblOffset val="100"/>
        <c:noMultiLvlLbl val="0"/>
      </c:catAx>
      <c:valAx>
        <c:axId val="8429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66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41C-B76A-4A83-9AEB-8770107F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7F4-5B5B-4405-9C76-AE58F4A2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412-54F0-4223-A6AD-90C08E75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FD0-1D04-4E0D-B574-0DA743E1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3BB-B69E-423B-9C40-91B38269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302-2DF5-4F9C-8FC9-33387865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A08-EFC7-4F1B-9A6B-2CCAC686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550-6574-42B0-BDC8-8595CB41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0CB-B9A2-497E-8540-9391A88C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E72-EF27-49CF-A094-F5F1228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C79-F375-48BF-A4E9-1E291231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B13-BFBC-4A38-8682-1F0A35DF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CFA22-38C9-4C8E-A182-6B59B36F33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