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67147"/>
        <c:axId val="56167366"/>
      </c:barChart>
      <c:catAx>
        <c:axId val="49167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67366"/>
        <c:crosses val="autoZero"/>
        <c:auto val="1"/>
        <c:lblAlgn val="ctr"/>
        <c:lblOffset val="100"/>
        <c:noMultiLvlLbl val="0"/>
      </c:catAx>
      <c:valAx>
        <c:axId val="56167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67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EC8-EB3C-4951-B63C-955914F1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B69-8A17-4405-8CB4-D620535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DEF-C883-45DA-A689-D89D3D89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34E-76A3-45FB-B488-16D35240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372-B8DE-4343-8130-60739F6D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35B-E568-442D-89E4-45DEB32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414-4400-4BCC-BB05-6C9EAEBA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5EF6-780D-4CA5-818D-12CB6B7D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F22B-AA95-4F52-8C29-D5E35BFB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B93-64C3-4FC6-ACCC-E87B0B0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A47-1A8C-4E60-9E55-CA79E46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CB3-2ADF-4B11-872F-14B1F521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8CC1F-C7DB-46D8-9B61-02E960419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